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2887-CC34-47D8-8974-B8ED5ED55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6321-63CA-4AF1-B3E4-F75AB51F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7C96-F1E4-4CE8-AA50-A99B95962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B5CC-0B3E-4AA1-B512-E3B389EF8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A858-20F9-41F7-8187-42E9F118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9FDA-0E18-45CD-89FD-AA1AB1FC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ED0A-D0F0-417C-845E-4DACD841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612A-18B6-4D92-9285-10204FB7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ED37-98D0-4F51-B7DD-E7BB1BB9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64CF-849E-4E3C-AA66-F05C3719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8CA2-14FA-49E8-AC27-689F58EA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966D-A844-439A-99FA-086F555F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5C1C-8186-4CB8-AE80-ECF24A503E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R</a:t>
            </a:r>
            <a:r>
              <a:rPr b="0" lang="sr-Latn-RS" sz="2800" spc="-1" strike="noStrike">
                <a:solidFill>
                  <a:srgbClr val="7f7f7f"/>
                </a:solidFill>
                <a:latin typeface="Calibri"/>
              </a:rPr>
              <a:t>azvojna psihologija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sr-Latn-RS" sz="8000" spc="-1" strike="noStrike">
                <a:solidFill>
                  <a:srgbClr val="7f7f7f"/>
                </a:solidFill>
                <a:latin typeface="Calibri"/>
              </a:rPr>
              <a:t>Prva godina života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4571640"/>
            <a:ext cx="3657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</a:t>
            </a:r>
            <a:r>
              <a:rPr b="0" lang="sr-Latn-RS" sz="2000" spc="-1" strike="noStrike">
                <a:solidFill>
                  <a:srgbClr val="898989"/>
                </a:solidFill>
                <a:latin typeface="Calibri"/>
              </a:rPr>
              <a:t>rof.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D</a:t>
            </a:r>
            <a:r>
              <a:rPr b="0" lang="sr-Latn-RS" sz="2000" spc="-1" strike="noStrike">
                <a:solidFill>
                  <a:srgbClr val="898989"/>
                </a:solidFill>
                <a:latin typeface="Calibri"/>
              </a:rPr>
              <a:t>r Nada Kora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</a:t>
            </a:r>
            <a:r>
              <a:rPr b="0" lang="sr-Latn-RS" sz="2000" spc="-1" strike="noStrike">
                <a:solidFill>
                  <a:srgbClr val="898989"/>
                </a:solidFill>
                <a:latin typeface="Calibri"/>
              </a:rPr>
              <a:t>edagoški fakultet u Jagodin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U</a:t>
            </a:r>
            <a:r>
              <a:rPr b="0" lang="sr-Latn-RS" sz="2000" spc="-1" strike="noStrike">
                <a:solidFill>
                  <a:srgbClr val="898989"/>
                </a:solidFill>
                <a:latin typeface="Calibri"/>
              </a:rPr>
              <a:t>niverztet u Kragujevc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Prva godina živ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Novorođenč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otre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sihološke         organs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rekl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tečene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naučene) –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bihejvioristi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urođene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-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H. Harlow, J. Bowlb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8"/>
          <p:cNvCxnSpPr/>
          <p:nvPr/>
        </p:nvCxnSpPr>
        <p:spPr>
          <a:xfrm flipH="1">
            <a:off x="3276000" y="2209680"/>
            <a:ext cx="610200" cy="5342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" name="Straight Arrow Connector 11"/>
          <p:cNvCxnSpPr/>
          <p:nvPr/>
        </p:nvCxnSpPr>
        <p:spPr>
          <a:xfrm>
            <a:off x="4419360" y="2209680"/>
            <a:ext cx="610200" cy="5342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7" name="Rounded Rectangle 17"/>
          <p:cNvSpPr/>
          <p:nvPr/>
        </p:nvSpPr>
        <p:spPr>
          <a:xfrm>
            <a:off x="1066680" y="3276720"/>
            <a:ext cx="335304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taktilna i kinestetička stimul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nežn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19"/>
          <p:cNvSpPr/>
          <p:nvPr/>
        </p:nvSpPr>
        <p:spPr>
          <a:xfrm>
            <a:off x="4648320" y="3124080"/>
            <a:ext cx="3352680" cy="838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glad, žeđ, toplo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odsustvo bola i dr. neprijat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>
            <a:off x="1828440" y="4190760"/>
            <a:ext cx="381600" cy="6865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50" name="Rounded Rectangle 28"/>
          <p:cNvGrpSpPr/>
          <p:nvPr/>
        </p:nvGrpSpPr>
        <p:grpSpPr>
          <a:xfrm>
            <a:off x="5479920" y="4950000"/>
            <a:ext cx="3292560" cy="774360"/>
            <a:chOff x="5479920" y="4950000"/>
            <a:chExt cx="3292560" cy="774360"/>
          </a:xfrm>
        </p:grpSpPr>
        <p:pic>
          <p:nvPicPr>
            <p:cNvPr id="51" name="Rounded Rectangle 28" descr=""/>
            <p:cNvPicPr/>
            <p:nvPr/>
          </p:nvPicPr>
          <p:blipFill>
            <a:blip r:embed="rId1"/>
            <a:stretch/>
          </p:blipFill>
          <p:spPr>
            <a:xfrm>
              <a:off x="5479920" y="4950000"/>
              <a:ext cx="32925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522760" y="4989600"/>
              <a:ext cx="320364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Calibri"/>
                </a:rPr>
                <a:t>generalizacija draž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Rounded Rectangle 30"/>
          <p:cNvGrpSpPr/>
          <p:nvPr/>
        </p:nvGrpSpPr>
        <p:grpSpPr>
          <a:xfrm>
            <a:off x="4950000" y="1060560"/>
            <a:ext cx="2755800" cy="549000"/>
            <a:chOff x="4950000" y="1060560"/>
            <a:chExt cx="2755800" cy="549000"/>
          </a:xfrm>
        </p:grpSpPr>
        <p:pic>
          <p:nvPicPr>
            <p:cNvPr id="54" name="Rounded Rectangle 30" descr=""/>
            <p:cNvPicPr/>
            <p:nvPr/>
          </p:nvPicPr>
          <p:blipFill>
            <a:blip r:embed="rId2"/>
            <a:stretch/>
          </p:blipFill>
          <p:spPr>
            <a:xfrm>
              <a:off x="4950000" y="1060560"/>
              <a:ext cx="275580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978440" y="1092240"/>
              <a:ext cx="26924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Calibri"/>
                </a:rPr>
                <a:t>bespomoćno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ight Arrow 31"/>
          <p:cNvSpPr/>
          <p:nvPr/>
        </p:nvSpPr>
        <p:spPr>
          <a:xfrm>
            <a:off x="4191120" y="114300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H. Harlow: Otkriće ljubavi*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sihološko poreklo ljubavi otkriveno je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lučajno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prilkom čišćenja kaveza s majmunčići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Hp: uz primarne biološke porebe (glad, žeđ ...) mora postojati i neka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snovna potreba za dodirom s nečim mekanim i udobni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Novorođenče, ljudsko ili majmunsko, kako bi preživelo, mora (se) uhvatiti za nešto više od slamk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*H. Harlow (1958) Priroda ljubavi. 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American Psychologist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,13,673 - 68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Okriće ljubavi: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eksperiment s paralelnim grupa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Žičana i mekana “mam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8 majmunčića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dve gru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rvih 5 meseci života praćen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čestalost svakodnevnog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eposrednog kontak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eakcije u situacijama (namerno izazvanog)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trah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našanje u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testu otvorenog pol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ezultati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be grupe mnogo više vremena uz mekanu “mamu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(lošije varenje uz žičanu “mamu”  → Hp: rezulat stres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traženje utehe kod mekane “mame” u situaciji strah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ekana “mama” kao baza za istraživanje u otvorenom polju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(up. Ainsworth - 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eksplorativno ponašanje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, Mekgark, str.77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J. Bowlby: ATTACHMENT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J. Bowlby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 pet instinktivnih (urođenih) reakcij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isanje, privijanje, praćenje, plač, osme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↑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snova razvoja </a:t>
            </a:r>
            <a:r>
              <a:rPr b="0" i="1" lang="sr-Latn-CS" sz="2800" spc="-1" strike="noStrike">
                <a:solidFill>
                  <a:srgbClr val="ff0000"/>
                </a:solidFill>
                <a:latin typeface="Calibri"/>
              </a:rPr>
              <a:t>privrž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vojstvena samo ljudskoj vrsti -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socijalni osmeh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(2 – 3 mes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razvijena kroz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rirodnu selekcij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amo ljudska beba deluje na odrasle smehom i plač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Tokom razvoja se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enjaju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bjek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načini ispoljava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NE menja se FUNKC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i="1" lang="sr-Latn-CS" sz="2400" spc="-1" strike="noStrike">
                <a:solidFill>
                  <a:srgbClr val="ff0000"/>
                </a:solidFill>
                <a:latin typeface="Calibri"/>
              </a:rPr>
              <a:t>afektivna vezanost, privrže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H. Rheingold: uzajamno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Eksperiment sa 16 beba, podeljenih u 2 grup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K: 8 beba, uobičajeni domski tretm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E: 8 beba, 8 sati dnevno, 8 nedel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znatno više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socijalnih reakcija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(na eksp. i na druga lic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ezultat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UZAJAMNE SOCIJALNE STIMULACIJE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pre nego same činjenice da se jedna osoba stara o de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ajka i dete su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DIJADA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 kojoj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be strane imaju aktivnu ulog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Calibri"/>
              </a:rPr>
              <a:t>UZAJAMNA SOCIJALIZACIJA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PRVOBITNA PARTICIPAC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Efekti nedostatka ranog emocionalnog kontak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NEPOSRED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R.Spitz    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osle  5  meseci razdvojenosti, nema oporav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ODLOŽ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Zaostajanje u intelektualnom razvoju i razvoju govo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jačana agresiv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jačana zavis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hiperaktiv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kratkotrajna paž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labija samokontro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esposobnost  uspostavljanja čvrstih emocionalnih ve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2286000" y="1523880"/>
            <a:ext cx="4572000" cy="68580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ANAKLITIČKA DEPRES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20:36:27Z</dcterms:created>
  <dc:creator>UNS</dc:creator>
  <dc:description/>
  <dc:language>en-US</dc:language>
  <cp:lastModifiedBy>Nada Korac</cp:lastModifiedBy>
  <dcterms:modified xsi:type="dcterms:W3CDTF">2011-01-26T23:20:10Z</dcterms:modified>
  <cp:revision>63</cp:revision>
  <dc:subject/>
  <dc:title>Prva godina života</dc:title>
</cp:coreProperties>
</file>