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7D8-6494-494E-939F-01B77823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EB3-8346-4D61-8CEF-81951E3E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0D2-05E7-4AB3-ABEA-2858392C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8C8-78F6-44A3-A4D3-A8581626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4B5-0F49-496E-9C36-4355A27B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293-4642-4544-AA93-8525DB6A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050-8591-44B4-A975-9338518A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3AF-BAFC-487D-AA71-11A22F4F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B64-A095-4A41-A7F4-23115926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1F6-F407-410F-805D-386AD946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972-9619-4271-B88A-815066DF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66D-E656-4055-BD67-2CB35920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FCBF-AB6F-47B4-A2A7-93FD29DC3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ighscope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R</a:t>
            </a:r>
            <a:r>
              <a:rPr b="0" lang="sr-Latn-RS" sz="2800" spc="-1" strike="noStrike">
                <a:solidFill>
                  <a:srgbClr val="7f7f7f"/>
                </a:solidFill>
                <a:latin typeface="Calibri"/>
              </a:rPr>
              <a:t>azvojna psihologija</a:t>
            </a:r>
            <a:br>
              <a:rPr sz="2800"/>
            </a:br>
            <a:br>
              <a:rPr sz="2800"/>
            </a:br>
            <a:br>
              <a:rPr sz="5400"/>
            </a:br>
            <a:r>
              <a:rPr b="0" lang="en-US" sz="5400" spc="-1" strike="noStrike">
                <a:solidFill>
                  <a:srgbClr val="7f7f7f"/>
                </a:solidFill>
                <a:latin typeface="Calibri"/>
              </a:rPr>
              <a:t>P</a:t>
            </a:r>
            <a:r>
              <a:rPr b="0" lang="sr-Latn-RS" sz="5400" spc="-1" strike="noStrike">
                <a:solidFill>
                  <a:srgbClr val="7f7f7f"/>
                </a:solidFill>
                <a:latin typeface="Calibri"/>
              </a:rPr>
              <a:t>ojam razvoja u psihologij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647960"/>
            <a:ext cx="4114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of.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r Nada Kor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edagoški fakultet u Jagodi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</a:t>
            </a:r>
            <a:r>
              <a:rPr b="0" lang="sr-Latn-RS" sz="2000" spc="-1" strike="noStrike">
                <a:solidFill>
                  <a:srgbClr val="898989"/>
                </a:solidFill>
                <a:latin typeface="Calibri"/>
              </a:rPr>
              <a:t>niverztet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500" spc="-1" strike="noStrike">
                <a:solidFill>
                  <a:srgbClr val="ff0000"/>
                </a:solidFill>
                <a:latin typeface="Calibri"/>
              </a:rPr>
              <a:t>R = f (t)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f7f7f"/>
                </a:solidFill>
                <a:latin typeface="Calibri"/>
              </a:rPr>
              <a:t>KAKO se razvoj odvi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000000"/>
                </a:solidFill>
                <a:latin typeface="Calibri"/>
              </a:rPr>
              <a:t>deskripcija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600" spc="-1" strike="noStrike">
                <a:solidFill>
                  <a:srgbClr val="7f7f7f"/>
                </a:solidFill>
                <a:latin typeface="Calibri"/>
              </a:rPr>
              <a:t>(istraživački podaci → op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f7f7f"/>
                </a:solidFill>
                <a:latin typeface="Calibri"/>
              </a:rPr>
              <a:t>ZAŠTO se odvija baš tak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000000"/>
                </a:solidFill>
                <a:latin typeface="Calibri"/>
              </a:rPr>
              <a:t>eksplanacija</a:t>
            </a:r>
            <a:r>
              <a:rPr b="1" i="1" lang="sr-Latn-CS" sz="26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sr-Latn-CS" sz="2600" spc="-1" strike="noStrike">
                <a:solidFill>
                  <a:srgbClr val="7f7f7f"/>
                </a:solidFill>
                <a:latin typeface="Calibri"/>
              </a:rPr>
              <a:t>(objašnjenje ↔ teorije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f7f7f"/>
                </a:solidFill>
                <a:latin typeface="Calibri"/>
              </a:rPr>
              <a:t>KAKO se saznanja o razvoju mogu PRIMENITI u cilju poboljšanja kvaliteta obrazovanja i vaspitanja dec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aplikacija</a:t>
            </a:r>
            <a:r>
              <a:rPr b="1" lang="sr-Latn-CS" sz="2400" spc="-1" strike="noStrike">
                <a:solidFill>
                  <a:srgbClr val="7f7f7f"/>
                </a:solidFill>
                <a:latin typeface="Calibri"/>
              </a:rPr>
              <a:t> (primena  ↔ političke odluk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HighScope Perry Preschool Study  </a:t>
            </a:r>
            <a:r>
              <a:rPr b="0" lang="sr-Latn-C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ighscope.org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3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7f7f7f"/>
                </a:solidFill>
                <a:latin typeface="Calibri"/>
              </a:rPr>
              <a:t>Razvoj: vrste promen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f7f7f"/>
                </a:solidFill>
                <a:latin typeface="Calibri"/>
              </a:rPr>
              <a:t>RAS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f7f7f"/>
                </a:solidFill>
                <a:latin typeface="Calibri"/>
              </a:rPr>
              <a:t>promene kvantiteta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z promene struk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tinuir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7f7f7f"/>
                </a:solidFill>
                <a:latin typeface="Calibri"/>
              </a:rPr>
              <a:t>npr. </a:t>
            </a:r>
            <a:r>
              <a:rPr b="0" lang="de-DE" sz="3200" spc="-1" strike="noStrike">
                <a:solidFill>
                  <a:srgbClr val="7f7f7f"/>
                </a:solidFill>
                <a:latin typeface="Calibri"/>
              </a:rPr>
              <a:t>rast kose</a:t>
            </a:r>
            <a:r>
              <a:rPr b="0" lang="sr-Latn-CS" sz="3200" spc="-1" strike="noStrike">
                <a:solidFill>
                  <a:srgbClr val="7f7f7f"/>
                </a:solidFill>
                <a:latin typeface="Calibri"/>
              </a:rPr>
              <a:t>, uvećanje rečnika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f7f7f"/>
                </a:solidFill>
                <a:latin typeface="Calibri"/>
              </a:rPr>
              <a:t>RAZVOJNE PROMEN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7f7f7f"/>
                </a:solidFill>
                <a:latin typeface="Calibri"/>
              </a:rPr>
              <a:t>Svojstva razvojnih prome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9480" y="1143000"/>
            <a:ext cx="80773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1.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Kvalitativnost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(diskontinuitet, skokovit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stadijum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i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 pripremaju jedan drugi, ali se kvalitativno razliku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npr. prva reč, promene  u strukturi rečenice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2.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Ireverzibilnost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 (nepovrat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npr. pubertetske promene, bore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 ...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otvoren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i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(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živ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i)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 sistem 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 ↔ zatvoreni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P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ojam razvoja 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se 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odnosi samo na razvoj živog sistema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organizam i psihički sistem kao njegov pod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3.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Kumulativnost</a:t>
            </a:r>
            <a:r>
              <a:rPr b="1" lang="fr-FR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(nagomilava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Kvalitativne promene (skokovite) 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su </a:t>
            </a:r>
            <a:r>
              <a:rPr b="0" lang="fr-FR" sz="2000" spc="-1" strike="noStrike">
                <a:solidFill>
                  <a:srgbClr val="7f7f7f"/>
                </a:solidFill>
                <a:latin typeface="Calibri"/>
              </a:rPr>
              <a:t>rezultat nagomilavanja, generacije pro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Calibri"/>
              </a:rPr>
              <a:t>R = f (t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Razvoj čine </a:t>
            </a: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prom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koje su </a:t>
            </a: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sistematski povezane s protokom vremena</a:t>
            </a: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ne ciklič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koje su </a:t>
            </a: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kvalitativne i ireverzibilne</a:t>
            </a: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koje vode sve većoj </a:t>
            </a: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diferencijaciji </a:t>
            </a: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i</a:t>
            </a: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 fleksibilnijoj integraciji </a:t>
            </a: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diferenciranih delov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crte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izgradnji </a:t>
            </a: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celovitije povezanih struktura </a:t>
            </a: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složeni oblici mišlje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sve većoj </a:t>
            </a:r>
            <a:r>
              <a:rPr b="1" lang="sr-Latn-CS" sz="2800" spc="-1" strike="noStrike">
                <a:solidFill>
                  <a:srgbClr val="7f7f7f"/>
                </a:solidFill>
                <a:latin typeface="Calibri"/>
              </a:rPr>
              <a:t>efikasnosti i ravnoteži</a:t>
            </a:r>
            <a:r>
              <a:rPr b="0" lang="sr-Latn-CS" sz="2800" spc="-1" strike="noStrike">
                <a:solidFill>
                  <a:srgbClr val="7f7f7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govor, mišljenje, motorika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21:09:25Z</dcterms:created>
  <dc:creator>UNS</dc:creator>
  <dc:description/>
  <dc:language>en-US</dc:language>
  <cp:lastModifiedBy>Nada Korac</cp:lastModifiedBy>
  <dcterms:modified xsi:type="dcterms:W3CDTF">2011-01-26T22:55:28Z</dcterms:modified>
  <cp:revision>24</cp:revision>
  <dc:subject/>
  <dc:title>Slide 1</dc:title>
</cp:coreProperties>
</file>