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C2C-679C-4831-BD98-972580E6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B99-3A72-4F0C-85EF-26E116E1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0C9-1F28-41A4-817D-86908E66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BF2-79D0-419E-89D7-22778BF7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FCA-22C2-4980-92AE-674C2EDA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1AB-E5F6-4390-9997-B17AE0BE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329-2F85-46D4-9BB1-AF4CCB3B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E0C-338D-4AEB-93D1-C8B80A14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7C4-D39E-4A72-9E60-8CEDCC00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AE0-F2DB-4101-906C-97728FA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43C-397D-428B-A7FD-20436351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24D-D625-4D81-9FC9-E2F1B46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6B31-592D-4CEB-A066-EE849B083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R</a:t>
            </a:r>
            <a:r>
              <a:rPr b="0" lang="sr-Latn-RS" sz="2800" spc="-1" strike="noStrike">
                <a:solidFill>
                  <a:srgbClr val="7f7f7f"/>
                </a:solidFill>
                <a:latin typeface="Calibri"/>
              </a:rPr>
              <a:t>azvojna psihologij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sr-Latn-RS" sz="5400" spc="-1" strike="noStrike">
                <a:solidFill>
                  <a:srgbClr val="7f7f7f"/>
                </a:solidFill>
                <a:latin typeface="Calibri"/>
              </a:rPr>
              <a:t>Istorija razvojne psihologij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343400"/>
            <a:ext cx="3581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of.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 Nada Kor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edagoški fakultet u Jagodi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niverztet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storija razvojne psihologije: </a:t>
            </a: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preliminarni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9907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ANTIKA</a:t>
            </a:r>
            <a:r>
              <a:rPr b="1" lang="sr-Latn-C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laton:  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INDIVIDUALNE RAZL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ristotel: Prenatalni razvoj, pubertet, periodoz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SREDNJI VEK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Homuncul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praroditeljski gre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RENESANSA I NOVI V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.A. Komenski: 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UZRASNE SPECIFIČNOSTI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Orbis pict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1658, Nirnberg – latinski, zatim danski, švedski, češki 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1883, Grac, srpski, češki, nemački, francuski (paraleln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.Descartes (XVII): </a:t>
            </a:r>
            <a:r>
              <a:rPr b="1" lang="sr-Latn-CS" sz="2400" spc="-1" strike="noStrike">
                <a:solidFill>
                  <a:srgbClr val="7f7f7f"/>
                </a:solidFill>
                <a:latin typeface="Calibri"/>
              </a:rPr>
              <a:t>RACIONALIZAM → NATIVIZ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. Locke (XVII): </a:t>
            </a:r>
            <a:r>
              <a:rPr b="1" lang="sr-Latn-CS" sz="2400" spc="-1" strike="noStrike">
                <a:solidFill>
                  <a:srgbClr val="7f7f7f"/>
                </a:solidFill>
                <a:latin typeface="Calibri"/>
              </a:rPr>
              <a:t>EMPIRIZA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tabula 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.J.Rousseau (XVIII):  potencijal deteta za dob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storija razvojne psihologije: </a:t>
            </a: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period uobliča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BIOGRAFSKE 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STUDIJE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estalozzi , 1774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obj.1828)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nevničke beleške o razvoju det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ideman, 1787, </a:t>
            </a:r>
            <a:r>
              <a:rPr b="1" i="1" lang="sr-Latn-CS" sz="2200" spc="-1" strike="noStrike">
                <a:solidFill>
                  <a:srgbClr val="7f7f7f"/>
                </a:solidFill>
                <a:latin typeface="Calibri"/>
              </a:rPr>
              <a:t>Posmatranje razvoja duševnih sposobnosti kod de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arwin, 1877, </a:t>
            </a:r>
            <a:r>
              <a:rPr b="1" i="1" lang="sr-Latn-CS" sz="2400" spc="-1" strike="noStrike">
                <a:solidFill>
                  <a:srgbClr val="7f7f7f"/>
                </a:solidFill>
                <a:latin typeface="Calibri"/>
              </a:rPr>
              <a:t>Biografska skica jedne b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ayer, 1882, </a:t>
            </a:r>
            <a:r>
              <a:rPr b="1" i="1" lang="sr-Latn-CS" sz="2400" spc="-1" strike="noStrike">
                <a:solidFill>
                  <a:srgbClr val="7f7f7f"/>
                </a:solidFill>
                <a:latin typeface="Calibri"/>
              </a:rPr>
              <a:t>Duša detet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– prvi 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elementi eksperiment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istraživanju psihičkog razvo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alentine, četrdesete godine XX ve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eteče </a:t>
            </a:r>
            <a:r>
              <a:rPr b="1" lang="sr-Latn-CS" sz="2400" spc="-1" strike="noStrike">
                <a:solidFill>
                  <a:srgbClr val="7f7f7f"/>
                </a:solidFill>
                <a:latin typeface="Calibri"/>
              </a:rPr>
              <a:t>LONGITUDINANOG PRISTUP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straživanju psihičkog razvo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storija razvojne psihologije: </a:t>
            </a:r>
            <a:r>
              <a:rPr b="1" lang="sr-Latn-CS" sz="2400" spc="-1" strike="noStrike">
                <a:solidFill>
                  <a:srgbClr val="7f7f7f"/>
                </a:solidFill>
                <a:latin typeface="Calibri"/>
              </a:rPr>
              <a:t>institucionalizacija i specijaliz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. Hall → (početak XX)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Pokret za proučavanje dete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906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rpsko društvo za dečju psihologiju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časopis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Glasni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lapa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è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 → institut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J.J. Rousseau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Žene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. Bi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t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→ MENTALNO TESTI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. Freud → otkriće RANOG DETINJSTVA, otkriće NESVESN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. Watson → BIHEJVIORIZ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2:42:31Z</dcterms:created>
  <dc:creator>UNS</dc:creator>
  <dc:description/>
  <dc:language>en-US</dc:language>
  <cp:lastModifiedBy>Nada Korac</cp:lastModifiedBy>
  <dcterms:modified xsi:type="dcterms:W3CDTF">2011-01-26T23:03:35Z</dcterms:modified>
  <cp:revision>24</cp:revision>
  <dc:subject/>
  <dc:title>Istorija razvojne psihologije: preliminarni period</dc:title>
</cp:coreProperties>
</file>