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3BE-538E-4316-98B3-252B165B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5B1-676E-41E1-A08D-0650F60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EF8-F225-4CEB-97C2-47DA7671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49D-138D-4387-AAD0-7054714D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851-FD58-47F5-BF44-6D168FE8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1B9-F2C9-4B36-A425-C44DAC90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D6F-C4A7-49E3-894F-0E90AD9B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313-763F-4A72-9095-8CBF090F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7A7-7D26-4693-898A-912CFE69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D83-669F-463D-B064-E4B173E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391-6595-44EE-A6F6-5B474F2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1CD-05B3-41FC-8292-33C7065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4EA-C87F-4636-A04B-7D2F45BF6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8000" spc="-1" strike="noStrike">
                <a:solidFill>
                  <a:srgbClr val="7f7f7f"/>
                </a:solidFill>
                <a:latin typeface="Calibri"/>
              </a:rPr>
              <a:t>Razvoj mišljenj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 “Tri planine” 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059440"/>
          </a:xfrm>
          <a:prstGeom prst="rect">
            <a:avLst/>
          </a:prstGeom>
          <a:ln w="0">
            <a:noFill/>
          </a:ln>
        </p:spPr>
      </p:pic>
      <p:grpSp>
        <p:nvGrpSpPr>
          <p:cNvPr id="78" name="Isosceles Triangle 3"/>
          <p:cNvGrpSpPr/>
          <p:nvPr/>
        </p:nvGrpSpPr>
        <p:grpSpPr>
          <a:xfrm>
            <a:off x="542880" y="1779480"/>
            <a:ext cx="4778280" cy="4017960"/>
            <a:chOff x="542880" y="1779480"/>
            <a:chExt cx="4778280" cy="4017960"/>
          </a:xfrm>
        </p:grpSpPr>
        <p:pic>
          <p:nvPicPr>
            <p:cNvPr id="79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542880" y="1779480"/>
              <a:ext cx="47782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771560" y="3772080"/>
              <a:ext cx="23241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Isosceles Triangle 5"/>
          <p:cNvGrpSpPr/>
          <p:nvPr/>
        </p:nvGrpSpPr>
        <p:grpSpPr>
          <a:xfrm>
            <a:off x="5273640" y="2859120"/>
            <a:ext cx="3394080" cy="2932200"/>
            <a:chOff x="5273640" y="2859120"/>
            <a:chExt cx="3394080" cy="2932200"/>
          </a:xfrm>
        </p:grpSpPr>
        <p:pic>
          <p:nvPicPr>
            <p:cNvPr id="82" name="Isosceles Triangle 5" descr=""/>
            <p:cNvPicPr/>
            <p:nvPr/>
          </p:nvPicPr>
          <p:blipFill>
            <a:blip r:embed="rId3"/>
            <a:stretch/>
          </p:blipFill>
          <p:spPr>
            <a:xfrm>
              <a:off x="5273640" y="2859120"/>
              <a:ext cx="3394080" cy="29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153120" y="4305240"/>
              <a:ext cx="16383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Isosceles Triangle 6"/>
          <p:cNvGrpSpPr/>
          <p:nvPr/>
        </p:nvGrpSpPr>
        <p:grpSpPr>
          <a:xfrm>
            <a:off x="1689120" y="3608280"/>
            <a:ext cx="2790720" cy="2262240"/>
            <a:chOff x="1689120" y="3608280"/>
            <a:chExt cx="2790720" cy="2262240"/>
          </a:xfrm>
        </p:grpSpPr>
        <p:pic>
          <p:nvPicPr>
            <p:cNvPr id="85" name="Isosceles Triangle 6" descr=""/>
            <p:cNvPicPr/>
            <p:nvPr/>
          </p:nvPicPr>
          <p:blipFill>
            <a:blip r:embed="rId4"/>
            <a:stretch/>
          </p:blipFill>
          <p:spPr>
            <a:xfrm>
              <a:off x="1689120" y="3608280"/>
              <a:ext cx="279072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19200" y="4724280"/>
              <a:ext cx="13338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 “Tri planine” 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Isosceles Triangle 3"/>
          <p:cNvGrpSpPr/>
          <p:nvPr/>
        </p:nvGrpSpPr>
        <p:grpSpPr>
          <a:xfrm>
            <a:off x="3743280" y="1706400"/>
            <a:ext cx="4394160" cy="3633840"/>
            <a:chOff x="3743280" y="1706400"/>
            <a:chExt cx="4394160" cy="3633840"/>
          </a:xfrm>
        </p:grpSpPr>
        <p:pic>
          <p:nvPicPr>
            <p:cNvPr id="90" name="Isosceles Triangle 3" descr=""/>
            <p:cNvPicPr/>
            <p:nvPr/>
          </p:nvPicPr>
          <p:blipFill>
            <a:blip r:embed="rId1"/>
            <a:stretch/>
          </p:blipFill>
          <p:spPr>
            <a:xfrm>
              <a:off x="3743280" y="1706400"/>
              <a:ext cx="439416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876920" y="3505320"/>
              <a:ext cx="21333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Isosceles Triangle 4"/>
          <p:cNvGrpSpPr/>
          <p:nvPr/>
        </p:nvGrpSpPr>
        <p:grpSpPr>
          <a:xfrm>
            <a:off x="4133880" y="3011400"/>
            <a:ext cx="2779560" cy="2548080"/>
            <a:chOff x="4133880" y="3011400"/>
            <a:chExt cx="2779560" cy="2548080"/>
          </a:xfrm>
        </p:grpSpPr>
        <p:pic>
          <p:nvPicPr>
            <p:cNvPr id="93" name="Isosceles Triangle 4" descr=""/>
            <p:cNvPicPr/>
            <p:nvPr/>
          </p:nvPicPr>
          <p:blipFill>
            <a:blip r:embed="rId2"/>
            <a:stretch/>
          </p:blipFill>
          <p:spPr>
            <a:xfrm>
              <a:off x="4133880" y="3011400"/>
              <a:ext cx="277956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57840" y="4267080"/>
              <a:ext cx="1333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Isosceles Triangle 5"/>
          <p:cNvGrpSpPr/>
          <p:nvPr/>
        </p:nvGrpSpPr>
        <p:grpSpPr>
          <a:xfrm>
            <a:off x="1463760" y="3852720"/>
            <a:ext cx="1944720" cy="1481400"/>
            <a:chOff x="1463760" y="3852720"/>
            <a:chExt cx="1944720" cy="1481400"/>
          </a:xfrm>
        </p:grpSpPr>
        <p:pic>
          <p:nvPicPr>
            <p:cNvPr id="96" name="Isosceles Triangle 5" descr=""/>
            <p:cNvPicPr/>
            <p:nvPr/>
          </p:nvPicPr>
          <p:blipFill>
            <a:blip r:embed="rId3"/>
            <a:stretch/>
          </p:blipFill>
          <p:spPr>
            <a:xfrm>
              <a:off x="1463760" y="3852720"/>
              <a:ext cx="194472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981080" y="4572000"/>
              <a:ext cx="914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05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zervacija broj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Flowchart: Connector 6"/>
          <p:cNvGrpSpPr/>
          <p:nvPr/>
        </p:nvGrpSpPr>
        <p:grpSpPr>
          <a:xfrm>
            <a:off x="1847880" y="2176560"/>
            <a:ext cx="571320" cy="579240"/>
            <a:chOff x="1847880" y="2176560"/>
            <a:chExt cx="571320" cy="579240"/>
          </a:xfrm>
        </p:grpSpPr>
        <p:pic>
          <p:nvPicPr>
            <p:cNvPr id="101" name="Flowchart: Connector 6" descr=""/>
            <p:cNvPicPr/>
            <p:nvPr/>
          </p:nvPicPr>
          <p:blipFill>
            <a:blip r:embed="rId2"/>
            <a:stretch/>
          </p:blipFill>
          <p:spPr>
            <a:xfrm>
              <a:off x="1847880" y="2176560"/>
              <a:ext cx="5713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971720" y="22766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Flowchart: Connector 9"/>
          <p:cNvGrpSpPr/>
          <p:nvPr/>
        </p:nvGrpSpPr>
        <p:grpSpPr>
          <a:xfrm>
            <a:off x="2457360" y="2176560"/>
            <a:ext cx="571680" cy="579240"/>
            <a:chOff x="2457360" y="2176560"/>
            <a:chExt cx="571680" cy="579240"/>
          </a:xfrm>
        </p:grpSpPr>
        <p:pic>
          <p:nvPicPr>
            <p:cNvPr id="104" name="Flowchart: Connector 9" descr=""/>
            <p:cNvPicPr/>
            <p:nvPr/>
          </p:nvPicPr>
          <p:blipFill>
            <a:blip r:embed="rId3"/>
            <a:stretch/>
          </p:blipFill>
          <p:spPr>
            <a:xfrm>
              <a:off x="2457360" y="2176560"/>
              <a:ext cx="57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581200" y="2276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Flowchart: Connector 10"/>
          <p:cNvGrpSpPr/>
          <p:nvPr/>
        </p:nvGrpSpPr>
        <p:grpSpPr>
          <a:xfrm>
            <a:off x="3139920" y="2176560"/>
            <a:ext cx="573120" cy="579240"/>
            <a:chOff x="3139920" y="2176560"/>
            <a:chExt cx="573120" cy="579240"/>
          </a:xfrm>
        </p:grpSpPr>
        <p:pic>
          <p:nvPicPr>
            <p:cNvPr id="107" name="Flowchart: Connector 10" descr=""/>
            <p:cNvPicPr/>
            <p:nvPr/>
          </p:nvPicPr>
          <p:blipFill>
            <a:blip r:embed="rId4"/>
            <a:stretch/>
          </p:blipFill>
          <p:spPr>
            <a:xfrm>
              <a:off x="3139920" y="2176560"/>
              <a:ext cx="5731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267000" y="2276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Flowchart: Connector 11"/>
          <p:cNvGrpSpPr/>
          <p:nvPr/>
        </p:nvGrpSpPr>
        <p:grpSpPr>
          <a:xfrm>
            <a:off x="3828960" y="2176560"/>
            <a:ext cx="571680" cy="579240"/>
            <a:chOff x="3828960" y="2176560"/>
            <a:chExt cx="571680" cy="579240"/>
          </a:xfrm>
        </p:grpSpPr>
        <p:pic>
          <p:nvPicPr>
            <p:cNvPr id="110" name="Flowchart: Connector 11" descr=""/>
            <p:cNvPicPr/>
            <p:nvPr/>
          </p:nvPicPr>
          <p:blipFill>
            <a:blip r:embed="rId5"/>
            <a:stretch/>
          </p:blipFill>
          <p:spPr>
            <a:xfrm>
              <a:off x="3828960" y="2176560"/>
              <a:ext cx="57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952800" y="2276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Flowchart: Connector 13"/>
          <p:cNvGrpSpPr/>
          <p:nvPr/>
        </p:nvGrpSpPr>
        <p:grpSpPr>
          <a:xfrm>
            <a:off x="4511520" y="2176560"/>
            <a:ext cx="573120" cy="579240"/>
            <a:chOff x="4511520" y="2176560"/>
            <a:chExt cx="573120" cy="579240"/>
          </a:xfrm>
        </p:grpSpPr>
        <p:pic>
          <p:nvPicPr>
            <p:cNvPr id="113" name="Flowchart: Connector 13" descr=""/>
            <p:cNvPicPr/>
            <p:nvPr/>
          </p:nvPicPr>
          <p:blipFill>
            <a:blip r:embed="rId6"/>
            <a:stretch/>
          </p:blipFill>
          <p:spPr>
            <a:xfrm>
              <a:off x="4511520" y="2176560"/>
              <a:ext cx="5731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638600" y="2276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Flowchart: Connector 14"/>
          <p:cNvGrpSpPr/>
          <p:nvPr/>
        </p:nvGrpSpPr>
        <p:grpSpPr>
          <a:xfrm>
            <a:off x="5200560" y="2176560"/>
            <a:ext cx="571680" cy="579240"/>
            <a:chOff x="5200560" y="2176560"/>
            <a:chExt cx="571680" cy="579240"/>
          </a:xfrm>
        </p:grpSpPr>
        <p:pic>
          <p:nvPicPr>
            <p:cNvPr id="116" name="Flowchart: Connector 14" descr=""/>
            <p:cNvPicPr/>
            <p:nvPr/>
          </p:nvPicPr>
          <p:blipFill>
            <a:blip r:embed="rId7"/>
            <a:stretch/>
          </p:blipFill>
          <p:spPr>
            <a:xfrm>
              <a:off x="5200560" y="2176560"/>
              <a:ext cx="57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24400" y="2276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Flowchart: Connector 15"/>
          <p:cNvGrpSpPr/>
          <p:nvPr/>
        </p:nvGrpSpPr>
        <p:grpSpPr>
          <a:xfrm>
            <a:off x="1847880" y="2938320"/>
            <a:ext cx="571320" cy="579600"/>
            <a:chOff x="1847880" y="2938320"/>
            <a:chExt cx="571320" cy="579600"/>
          </a:xfrm>
        </p:grpSpPr>
        <p:pic>
          <p:nvPicPr>
            <p:cNvPr id="119" name="Flowchart: Connector 15" descr=""/>
            <p:cNvPicPr/>
            <p:nvPr/>
          </p:nvPicPr>
          <p:blipFill>
            <a:blip r:embed="rId8"/>
            <a:stretch/>
          </p:blipFill>
          <p:spPr>
            <a:xfrm>
              <a:off x="1847880" y="2938320"/>
              <a:ext cx="5713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971720" y="30384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Flowchart: Connector 16"/>
          <p:cNvGrpSpPr/>
          <p:nvPr/>
        </p:nvGrpSpPr>
        <p:grpSpPr>
          <a:xfrm>
            <a:off x="2457360" y="2938320"/>
            <a:ext cx="571680" cy="579600"/>
            <a:chOff x="2457360" y="2938320"/>
            <a:chExt cx="571680" cy="579600"/>
          </a:xfrm>
        </p:grpSpPr>
        <p:pic>
          <p:nvPicPr>
            <p:cNvPr id="122" name="Flowchart: Connector 16" descr=""/>
            <p:cNvPicPr/>
            <p:nvPr/>
          </p:nvPicPr>
          <p:blipFill>
            <a:blip r:embed="rId9"/>
            <a:stretch/>
          </p:blipFill>
          <p:spPr>
            <a:xfrm>
              <a:off x="2457360" y="2938320"/>
              <a:ext cx="5716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581200" y="30384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Flowchart: Connector 18"/>
          <p:cNvGrpSpPr/>
          <p:nvPr/>
        </p:nvGrpSpPr>
        <p:grpSpPr>
          <a:xfrm>
            <a:off x="3139920" y="2938320"/>
            <a:ext cx="573120" cy="579600"/>
            <a:chOff x="3139920" y="2938320"/>
            <a:chExt cx="573120" cy="579600"/>
          </a:xfrm>
        </p:grpSpPr>
        <p:pic>
          <p:nvPicPr>
            <p:cNvPr id="125" name="Flowchart: Connector 18" descr=""/>
            <p:cNvPicPr/>
            <p:nvPr/>
          </p:nvPicPr>
          <p:blipFill>
            <a:blip r:embed="rId10"/>
            <a:stretch/>
          </p:blipFill>
          <p:spPr>
            <a:xfrm>
              <a:off x="3139920" y="2938320"/>
              <a:ext cx="5731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67000" y="30384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Flowchart: Connector 19"/>
          <p:cNvGrpSpPr/>
          <p:nvPr/>
        </p:nvGrpSpPr>
        <p:grpSpPr>
          <a:xfrm>
            <a:off x="3828960" y="2938320"/>
            <a:ext cx="571680" cy="579600"/>
            <a:chOff x="3828960" y="2938320"/>
            <a:chExt cx="571680" cy="579600"/>
          </a:xfrm>
        </p:grpSpPr>
        <p:pic>
          <p:nvPicPr>
            <p:cNvPr id="128" name="Flowchart: Connector 19" descr=""/>
            <p:cNvPicPr/>
            <p:nvPr/>
          </p:nvPicPr>
          <p:blipFill>
            <a:blip r:embed="rId11"/>
            <a:stretch/>
          </p:blipFill>
          <p:spPr>
            <a:xfrm>
              <a:off x="3828960" y="2938320"/>
              <a:ext cx="5716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952800" y="30384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Flowchart: Connector 20"/>
          <p:cNvGrpSpPr/>
          <p:nvPr/>
        </p:nvGrpSpPr>
        <p:grpSpPr>
          <a:xfrm>
            <a:off x="4511520" y="2938320"/>
            <a:ext cx="573120" cy="579600"/>
            <a:chOff x="4511520" y="2938320"/>
            <a:chExt cx="573120" cy="579600"/>
          </a:xfrm>
        </p:grpSpPr>
        <p:pic>
          <p:nvPicPr>
            <p:cNvPr id="131" name="Flowchart: Connector 20" descr=""/>
            <p:cNvPicPr/>
            <p:nvPr/>
          </p:nvPicPr>
          <p:blipFill>
            <a:blip r:embed="rId12"/>
            <a:stretch/>
          </p:blipFill>
          <p:spPr>
            <a:xfrm>
              <a:off x="4511520" y="2938320"/>
              <a:ext cx="5731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638600" y="30384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Flowchart: Connector 21"/>
          <p:cNvGrpSpPr/>
          <p:nvPr/>
        </p:nvGrpSpPr>
        <p:grpSpPr>
          <a:xfrm>
            <a:off x="5200560" y="2938320"/>
            <a:ext cx="571680" cy="579600"/>
            <a:chOff x="5200560" y="2938320"/>
            <a:chExt cx="571680" cy="579600"/>
          </a:xfrm>
        </p:grpSpPr>
        <p:pic>
          <p:nvPicPr>
            <p:cNvPr id="134" name="Flowchart: Connector 21" descr=""/>
            <p:cNvPicPr/>
            <p:nvPr/>
          </p:nvPicPr>
          <p:blipFill>
            <a:blip r:embed="rId13"/>
            <a:stretch/>
          </p:blipFill>
          <p:spPr>
            <a:xfrm>
              <a:off x="5200560" y="2938320"/>
              <a:ext cx="5716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324400" y="30384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33333E-006 L 0.11667 0.02222 E">
                                      <p:cBhvr>
                                        <p:cTn id="603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025 0.12222 E">
                                      <p:cBhvr>
                                        <p:cTn id="60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01667 0.17777 E">
                                      <p:cBhvr>
                                        <p:cTn id="611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-0.00833 0.11111 E">
                                      <p:cBhvr>
                                        <p:cTn id="615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-0.01667 0.16666 E">
                                      <p:cBhvr>
                                        <p:cTn id="61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075 0.08889 E">
                                      <p:cBhvr>
                                        <p:cTn id="623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zervacija m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1752480" y="1981080"/>
            <a:ext cx="1752840" cy="1600200"/>
          </a:xfrm>
          <a:prstGeom prst="ellipse">
            <a:avLst/>
          </a:prstGeom>
          <a:solidFill>
            <a:srgbClr val="c4bd97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066680" y="2895480"/>
            <a:ext cx="3276720" cy="762120"/>
          </a:xfrm>
          <a:prstGeom prst="ellipse">
            <a:avLst/>
          </a:prstGeom>
          <a:solidFill>
            <a:srgbClr val="c4bd97"/>
          </a:solidFill>
          <a:ln w="25560">
            <a:solidFill>
              <a:srgbClr val="c4bd97"/>
            </a:solidFill>
            <a:miter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029200" y="1981080"/>
            <a:ext cx="1676520" cy="1600200"/>
          </a:xfrm>
          <a:prstGeom prst="ellipse">
            <a:avLst/>
          </a:prstGeom>
          <a:solidFill>
            <a:srgbClr val="c4bd97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10"/>
          <p:cNvCxnSpPr>
            <a:stCxn id="139" idx="2"/>
            <a:endCxn id="139" idx="6"/>
          </p:cNvCxnSpPr>
          <p:nvPr/>
        </p:nvCxnSpPr>
        <p:spPr>
          <a:xfrm flipV="1">
            <a:off x="1066680" y="3276360"/>
            <a:ext cx="32774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2" name="Straight Arrow Connector 16"/>
          <p:cNvCxnSpPr>
            <a:stCxn id="140" idx="0"/>
            <a:endCxn id="140" idx="4"/>
          </p:cNvCxnSpPr>
          <p:nvPr/>
        </p:nvCxnSpPr>
        <p:spPr>
          <a:xfrm>
            <a:off x="5864760" y="1982520"/>
            <a:ext cx="3960" cy="1600920"/>
          </a:xfrm>
          <a:prstGeom prst="straightConnector1">
            <a:avLst/>
          </a:prstGeom>
          <a:ln w="38160">
            <a:solidFill>
              <a:srgbClr val="37609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Straight Arrow Connector 18"/>
          <p:cNvCxnSpPr>
            <a:stCxn id="139" idx="0"/>
            <a:endCxn id="139" idx="4"/>
          </p:cNvCxnSpPr>
          <p:nvPr/>
        </p:nvCxnSpPr>
        <p:spPr>
          <a:xfrm>
            <a:off x="2702520" y="2897280"/>
            <a:ext cx="3960" cy="762480"/>
          </a:xfrm>
          <a:prstGeom prst="straightConnector1">
            <a:avLst/>
          </a:prstGeom>
          <a:ln w="38160">
            <a:solidFill>
              <a:srgbClr val="37609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4" name="Straight Arrow Connector 20"/>
          <p:cNvCxnSpPr>
            <a:stCxn id="140" idx="2"/>
            <a:endCxn id="140" idx="6"/>
          </p:cNvCxnSpPr>
          <p:nvPr/>
        </p:nvCxnSpPr>
        <p:spPr>
          <a:xfrm flipV="1">
            <a:off x="5028120" y="2781000"/>
            <a:ext cx="1677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zervacija tečnosti (kontinuirane veličin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600200" y="3352680"/>
            <a:ext cx="9144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19520" y="3352680"/>
            <a:ext cx="9144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2590920"/>
            <a:ext cx="60948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648320" y="3276720"/>
            <a:ext cx="609480" cy="1600200"/>
          </a:xfrm>
          <a:prstGeom prst="rect">
            <a:avLst/>
          </a:prstGeom>
          <a:solidFill>
            <a:srgbClr val="c6d9f1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819520" y="4038480"/>
            <a:ext cx="91440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1600200" y="4038480"/>
            <a:ext cx="91440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Curved Connector 13"/>
          <p:cNvCxnSpPr>
            <a:endCxn id="149" idx="0"/>
          </p:cNvCxnSpPr>
          <p:nvPr/>
        </p:nvCxnSpPr>
        <p:spPr>
          <a:xfrm flipV="1">
            <a:off x="3276720" y="2590560"/>
            <a:ext cx="1676880" cy="762480"/>
          </a:xfrm>
          <a:prstGeom prst="curvedConnector5">
            <a:avLst>
              <a:gd name="adj1" fmla="val 49989"/>
              <a:gd name="adj2" fmla="val 89702"/>
              <a:gd name="adj3" fmla="val 49989"/>
            </a:avLst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54" name="Straight Connector 14"/>
          <p:cNvSpPr/>
          <p:nvPr/>
        </p:nvSpPr>
        <p:spPr>
          <a:xfrm flipH="1">
            <a:off x="5257800" y="3278160"/>
            <a:ext cx="1440" cy="15987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7"/>
          <p:cNvSpPr/>
          <p:nvPr/>
        </p:nvSpPr>
        <p:spPr>
          <a:xfrm>
            <a:off x="4648320" y="4876920"/>
            <a:ext cx="609480" cy="1440"/>
          </a:xfrm>
          <a:prstGeom prst="line">
            <a:avLst/>
          </a:prstGeom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5"/>
          <p:cNvSpPr/>
          <p:nvPr/>
        </p:nvSpPr>
        <p:spPr>
          <a:xfrm flipH="1">
            <a:off x="2513160" y="4040280"/>
            <a:ext cx="2880" cy="9144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9"/>
          <p:cNvSpPr/>
          <p:nvPr/>
        </p:nvSpPr>
        <p:spPr>
          <a:xfrm flipH="1" flipV="1">
            <a:off x="1600200" y="4952520"/>
            <a:ext cx="914400" cy="1800"/>
          </a:xfrm>
          <a:prstGeom prst="line">
            <a:avLst/>
          </a:prstGeom>
          <a:ln w="572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zvoj mišljenja: neka otvorena pit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Relativni značaj sazrevanja i uč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itanje </a:t>
            </a:r>
            <a:r>
              <a:rPr b="0" lang="sr-Latn-RS" sz="3200" spc="-1" strike="noStrike">
                <a:solidFill>
                  <a:srgbClr val="ff0000"/>
                </a:solidFill>
                <a:latin typeface="Calibri"/>
              </a:rPr>
              <a:t>kvalitativnih raz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(ne)konzervacija vs silogističko zaključ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P: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tvari dospevaju u stomak tako što se proguta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P: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ja sam bio u stoma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: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ja sam bio progu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itanje </a:t>
            </a:r>
            <a:r>
              <a:rPr b="0" lang="sr-Latn-RS" sz="3200" spc="-1" strike="noStrike">
                <a:solidFill>
                  <a:srgbClr val="ff0000"/>
                </a:solidFill>
                <a:latin typeface="Calibri"/>
              </a:rPr>
              <a:t>brzine 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uticaj neposrednog socijalnog konteksta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(M.Donalds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znajni (kognitivni) razvo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aznajni (kognitivni) razvo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činje rođen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raniji oblici saznanj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ažajno-praktičn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latn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šljen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razvijeniji i najsloženiji vid saznajne aktivnosti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č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etak tok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uge godine život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iaget:  STADI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nzomotorna inteligenci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-24 mese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šest razvojnih faz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2. priprema i organizacija konkretnih operaci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az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operacioni peri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-7 g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nkretne operac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7-11 g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malne operacij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1-15 g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Rani saznajni razvoj: 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i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lac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očetak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jnog, namernog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zanja i hvatan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sec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vi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kušaji hvatanja predmet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ozicije palca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me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aj prve god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jno i precizno planira i izvodi pokrete dosezanja i hvatanja,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matsk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pit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svojstva predmet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tavlja u usta, opipava, ste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, ba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proksimo-distalni prav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Rani saznajni razvoj: 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lokomoc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orođen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č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kretanje i podizanje glave kad leži potrbuš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jna kontrola delova tela uključenih u lokomociju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efalo-kaudalni prav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stoji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hod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pre uz potporu a zatim samostalno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aj prve godine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pravn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an 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konstantnost razvojnog reda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zanje nije obavezna fa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redni istraživački podaci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pi Indijanci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udna ulo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71800" y="5410080"/>
            <a:ext cx="3048120" cy="5335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ZR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Rani saznajni razvoj: 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percepcija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pažajn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postoja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- 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j prve godin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ozna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v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predmet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no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ezavisno od udaljenosti, ugla posmatranja i osvetlj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zomotorni fenom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pravom smislu reči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jučnu ulogu igraju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zorne i motorne aktivnost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ercepcija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cija u lokomo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rhunac senzomotornog razvoja u ovom peri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ažanj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bi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zite na vizualni ponor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R. Hock, 2004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Rani saznajni razvoj: preduslovi 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mišlj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rva polovina prve godi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"Svet je za dete totalitet slika koje se pojavljuju ni iz čega i vraćaju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 u šta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revazilaženje “sada i ovd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šema permanentnog objekta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(9 mese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življ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svet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i objek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živ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ih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i neživ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ih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u njemu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ezavisn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ih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od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sebe i sopstvenih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k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osnov sposobnost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(v.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Daleko od očiju, ali ne i od um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 R. Hock, 2004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aget, J.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(1971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Construction of Reality in the Chil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ew York: Ballantine Boo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505320" y="4800600"/>
            <a:ext cx="3352680" cy="5335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alibri"/>
              </a:rPr>
              <a:t>reprezent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Mišljenje, simbolička funkcija i gov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dložena imi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terioriz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rez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ntalna sl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bolička ig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šlj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or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own Arrow 3"/>
          <p:cNvSpPr/>
          <p:nvPr/>
        </p:nvSpPr>
        <p:spPr>
          <a:xfrm>
            <a:off x="609480" y="1523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4"/>
          <p:cNvSpPr/>
          <p:nvPr/>
        </p:nvSpPr>
        <p:spPr>
          <a:xfrm>
            <a:off x="609480" y="2666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šljenje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eoperacioni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entracija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kretnos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reverzibilnost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nja nasuprot transformacijama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zavisnost od percepcije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– V. 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z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ransduktivno zaključivanj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d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ojedinačnog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jedinačnom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(6 jabuka + 4 kruške ..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gocentrizam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usredsređenost na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sopstvenu tačku glediš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4"/>
          <p:cNvSpPr/>
          <p:nvPr/>
        </p:nvSpPr>
        <p:spPr>
          <a:xfrm>
            <a:off x="7238880" y="3048120"/>
            <a:ext cx="0" cy="60948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"/>
          <p:cNvSpPr/>
          <p:nvPr/>
        </p:nvSpPr>
        <p:spPr>
          <a:xfrm>
            <a:off x="7315200" y="3657600"/>
            <a:ext cx="685800" cy="144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"/>
          <p:cNvSpPr/>
          <p:nvPr/>
        </p:nvSpPr>
        <p:spPr>
          <a:xfrm flipV="1">
            <a:off x="7315200" y="3047760"/>
            <a:ext cx="76320" cy="53316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1"/>
          <p:cNvSpPr/>
          <p:nvPr/>
        </p:nvSpPr>
        <p:spPr>
          <a:xfrm flipV="1">
            <a:off x="7315200" y="3124080"/>
            <a:ext cx="380880" cy="4572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0"/>
          <p:cNvSpPr/>
          <p:nvPr/>
        </p:nvSpPr>
        <p:spPr>
          <a:xfrm flipV="1">
            <a:off x="7315200" y="3428640"/>
            <a:ext cx="533520" cy="15228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895480" y="1066680"/>
            <a:ext cx="5334120" cy="457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vezanost za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mo jedan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spekt situ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3200400" y="1676520"/>
            <a:ext cx="5410080" cy="457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vezanost za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pojavno upadljive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sp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3429000" y="2286000"/>
            <a:ext cx="5334120" cy="457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mogućnost  vraćanja na početnu tač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pitivanje egocentrizma: test  “Tri planine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828800" y="2057400"/>
            <a:ext cx="5181480" cy="327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886200" y="1371600"/>
            <a:ext cx="60948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376092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4038480" y="5562720"/>
            <a:ext cx="60984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376092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76720" y="2438280"/>
            <a:ext cx="1295280" cy="1219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733920" y="3886200"/>
            <a:ext cx="609480" cy="60948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4876920" y="2666880"/>
            <a:ext cx="914400" cy="914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2:43Z</dcterms:created>
  <dc:creator>UNS</dc:creator>
  <dc:description/>
  <dc:language>en-US</dc:language>
  <cp:lastModifiedBy>Nada Korac</cp:lastModifiedBy>
  <dcterms:modified xsi:type="dcterms:W3CDTF">2011-01-26T23:46:23Z</dcterms:modified>
  <cp:revision>106</cp:revision>
  <dc:subject/>
  <dc:title>Mišljenje, simbolička funkcija i govor</dc:title>
</cp:coreProperties>
</file>