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885-861D-4DBF-970A-EE9D64CA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CBE-1F9A-4F57-A235-DFC4146F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F41-8455-4451-86F0-BC75D9E1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FF0-F922-4A1F-A2B9-7925BA46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A08-C058-4567-BD40-7D5D3366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0460-8717-4B48-A866-FDB8D819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63B-16C9-4EDD-BAB1-D4F13712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0C7-6BA8-4F05-903F-1CC7D35E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BDC-04EA-4422-BB24-81F87CA9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A42-1634-4881-B2BC-D43444D7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22D5-96A8-4BB5-A71A-CB7D11BC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3A21-5F22-470D-A71E-5CA7128D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515F-CB84-46AC-B652-5C70CD093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R</a:t>
            </a:r>
            <a:r>
              <a:rPr b="0" lang="sr-Latn-RS" sz="2800" spc="-1" strike="noStrike">
                <a:solidFill>
                  <a:srgbClr val="7f7f7f"/>
                </a:solidFill>
                <a:latin typeface="Calibri"/>
              </a:rPr>
              <a:t>azvojna psihologija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sr-Latn-RS" sz="6000" spc="-1" strike="noStrike">
                <a:solidFill>
                  <a:srgbClr val="7f7f7f"/>
                </a:solidFill>
                <a:latin typeface="Calibri"/>
              </a:rPr>
              <a:t>Teorije psihičkog razvoj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4419720"/>
            <a:ext cx="3505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rof.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r Nada Kora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edagoški fakultet u Jagodin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U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niverztet u Kragujevc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SIHODINAMSKE TEOR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. Freud: 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PSIHOANALIZA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Ψ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kretačke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dinamsk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 snage razvoj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libido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agresivni nagon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eros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tanato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STADIJUMI psihoseksualnog razvo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ishod sukcesivnog usmeravanja  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Ψ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energije na određene telesne zon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Njeno vezivanj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iks</a:t>
            </a:r>
            <a:r>
              <a:rPr b="0" i="1" lang="sr-Latn-CS" sz="2200" spc="-1" strike="noStrike">
                <a:solidFill>
                  <a:srgbClr val="000000"/>
                </a:solidFill>
                <a:latin typeface="Calibri"/>
              </a:rPr>
              <a:t>ac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sr-Latn-CS" sz="2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za probleme karakteristične za određenu fazu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/zonu remeti normalan razvoj → neurotična l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čno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STRUKTURA LIČ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formira se shodno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unutrašnjoj dinamici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(odnosima između pojedinih delova) i potrebi da se organizam prilagodi uslovima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spoljašnje sred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vo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se odvija/formira na nivou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NESVESNOG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van uticaja volje i namera pojedin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TEORIJE PSIHIČKOG RAZVO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44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išta nije tako praktično kao dobra teor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. Lew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eorije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srednjeg i užeg obima →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osvećene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AZLIČITIM OBLASTIMA RAZVO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azličiti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AVCI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zasnovani na različitim filozofskim tradi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acionalizam →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nativizam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TRUKTURALIZAM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rlo uslovno↑, sasvim labavo povezane teor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Empirizam →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BIHEJVIORIZAM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teorije uče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behavio(u)r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= ponaš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itanje </a:t>
            </a: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USMERENOSTI RAZVOJ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Žan Pijaž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Jean Piaget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TRUKTURALISTIČK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teorija razvo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Funkcionalne invarijant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sr-Latn-CS" sz="3200" spc="-1" strike="noStrike">
                <a:solidFill>
                  <a:srgbClr val="ff3300"/>
                </a:solidFill>
                <a:latin typeface="Calibri"/>
              </a:rPr>
              <a:t>ORGANIZACIJA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CS" sz="3200" spc="-1" strike="noStrike">
                <a:solidFill>
                  <a:srgbClr val="ff3300"/>
                </a:solidFill>
                <a:latin typeface="Calibri"/>
              </a:rPr>
              <a:t>ADAPT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asimilacija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akomod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Osnovni pojmov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Calibri"/>
                <a:ea typeface="Arial"/>
              </a:rPr>
              <a:t>CELOVITOST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Calibri"/>
                <a:ea typeface="Arial"/>
              </a:rPr>
              <a:t>TRANSFORMACIJ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Calibri"/>
                <a:ea typeface="Arial"/>
              </a:rPr>
              <a:t>AUTOREGULACIJ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4"/>
          <p:cNvCxnSpPr/>
          <p:nvPr/>
        </p:nvCxnSpPr>
        <p:spPr>
          <a:xfrm flipH="1">
            <a:off x="4723560" y="2666880"/>
            <a:ext cx="229320" cy="61056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" name="Straight Arrow Connector 6"/>
          <p:cNvCxnSpPr/>
          <p:nvPr/>
        </p:nvCxnSpPr>
        <p:spPr>
          <a:xfrm>
            <a:off x="6628320" y="2590560"/>
            <a:ext cx="229320" cy="68652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Osnovni činilac razvo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3300"/>
                </a:solidFill>
                <a:latin typeface="Calibri"/>
              </a:rPr>
              <a:t>URAVNOTEŽAVANJ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ekvilibracij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rimeri neravnotež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isterogers na odm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BORBA”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→ “POLITIK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JEDINK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je, u svojim stalnim razmenama sa sredinom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AGENS SOPSTVENOG RAZVO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vaki živi sistem u svom razvoju polazi od nek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Calibri"/>
              </a:rPr>
              <a:t>ORGANIZACIJ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oja teži da 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Calibri"/>
              </a:rPr>
              <a:t>ADAPTIR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a bi se adaptirala, ona mora da 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Calibri"/>
              </a:rPr>
              <a:t>TRANSFORMIŠ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ad se transformiše, menja se ka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Calibri"/>
              </a:rPr>
              <a:t>CELOVIT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sistem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 to 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Calibri"/>
              </a:rPr>
              <a:t>AUTOREGULATIVAN</a:t>
            </a:r>
            <a:r>
              <a:rPr b="0" lang="sr-Latn-CS" sz="28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ač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av Vigotski: kulturno-istorijski model razvo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Kvaliativn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promen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strukturno-organizacione) psihičkih     pojava kroz istoriju ljudske vrste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filogeneza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 i razvoj pojedinca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ontogeneza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Aktivna uloga pojedinca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u sopstvenom razvo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java i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azvoj jezika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koji čini deo društvenog života čovečanstva i do koga uopšte nije došlo s povećanjem težine mozga, nastala je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poredo s povećanjem složenosti socijalnih odnosa i socijalnih delatnosti čoveka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A razvoj govora, tog osnovnog pomoćnog sredstva mišljenja (...)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digao na novi stupanj razvoj samog mišljenja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...)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ismenost kao veštačko pamćenje čovečanstv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loženi oblici socijalne interakcije dovode do pojave novih oblika individualnog ponašanja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.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tek kroz druge postajemo ono što jesmo</a:t>
            </a:r>
            <a:r>
              <a:rPr b="0" lang="sr-Latn-C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(... I ličnost u celini, i svaka pojedina funkcija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av Vigotski*: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ndividualno-socioekološki pristu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ONTOGENEZA:</a:t>
            </a: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ovek je </a:t>
            </a:r>
            <a:r>
              <a:rPr b="0" lang="sr-Latn-CS" sz="2000" spc="-1" strike="noStrike">
                <a:solidFill>
                  <a:srgbClr val="ff0000"/>
                </a:solidFill>
                <a:latin typeface="Calibri"/>
              </a:rPr>
              <a:t>DRUŠTVENO BIĆ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 ra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zmenama sa sredinom, važna j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pomoć koju dobija od drugih (pre svega ODRASLIH) oso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prikladno za vrste kod kojih je kontakt roditelj-potomak relativno dug,  gde odrasli obavjlaju neku obuku (eksplicitno ili primerom)  -  naročito ljudska vrs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azvojno je ključ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ASIMETRIČNA INERAK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drasli zna više od deteta, i o samom detetu i o svetu koji ga okružu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a bi ovakva interakcija bila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azvojno efikasna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, važno je da se odvij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ZONI NAREDNOG RAZVO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no što dete, u datoj fazi, još uvek ne može da uradi samo, ali može u interakciji sa odrasli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7f7f7f"/>
                </a:solidFill>
                <a:latin typeface="Calibri"/>
              </a:rPr>
              <a:t>scaffolding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= “skele”, sistem socijalne (obrazovne) podrške u  ZN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Лев Семёнович  В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ы</a:t>
            </a: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ó</a:t>
            </a: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тский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*Jaan Valsiner, U of Virginia, U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BIHEJVIORIZ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UČENJ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ljučni faktor razvoja →  negacija ideje razvo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mene nastale isključivo učenje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su razvoj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jer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su ireverzibiln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no što se nauči, može se zaboraviti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 moraju biti kumulativn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mogućnost učenja "iz jednog puta“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 moraju biti kvalitativn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pr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čenje napame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ema fiksiranog redosleda →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NEMA STADIJU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ajte mi tuce zdravih, dobro građenih beba da ih podižem na način kako ja odredim, pa garantujem da ću od svake od njih, nasumično, uspeti da stvorim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bilo koji tip specijaliste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 koji se opredelim – lekara, advokata, trgovca, direktora a, naravno, čak i prosjaka ili lopova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ezavisno od talenta, sklonosti, sposobnosti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poziva ili rase njihovih predak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J. Watson, 19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4" dur="2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BIHEJVIORIZAM: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EORIJE UČ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snovni oblici učenj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lasično (respondentno) uslovljav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vlov, Watson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npr. emocionalno uslovljavanj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nstrumentalno (operantno) uslovljav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otkrepljenje → zakon efek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Radnje se učvršćuju ili eliminišu kao funkcija svojih efekata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B.F. Skinner: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bihejvioralna modifika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agrađivanje uspešnih aproksimac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.Bandura: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opservaciono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učenj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učenje po modelu,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vikarijsko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učenj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0" lang="sr-Latn-CS" sz="3600" spc="-1" strike="noStrike">
                <a:solidFill>
                  <a:srgbClr val="ff0000"/>
                </a:solidFill>
                <a:latin typeface="Calibri"/>
              </a:rPr>
              <a:t>SOCIJALNO</a:t>
            </a:r>
            <a:r>
              <a:rPr b="0" lang="sr-Latn-C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ff0000"/>
                </a:solidFill>
                <a:latin typeface="Calibri"/>
              </a:rPr>
              <a:t>UČENJ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21:53:06Z</dcterms:created>
  <dc:creator>UNS</dc:creator>
  <dc:description/>
  <dc:language>en-US</dc:language>
  <cp:lastModifiedBy>Nada Korac</cp:lastModifiedBy>
  <dcterms:modified xsi:type="dcterms:W3CDTF">2011-01-26T23:06:50Z</dcterms:modified>
  <cp:revision>65</cp:revision>
  <dc:subject/>
  <dc:title>TEORIJE PSIHIČKOG RAZVOJA</dc:title>
</cp:coreProperties>
</file>