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1B6-7CC6-4038-AFD6-DF75C85A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A76-D557-412E-A20D-E0B27843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47B-FA0C-4C78-97E5-650D2842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1B6-5338-4D07-B015-86EF0172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27B-3C21-477B-B228-6A5FBA03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FFC-9FF4-4D4E-B97C-EBF79871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C34-8603-4B8E-9DB3-A9C6B06E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44A-AAAE-49B5-8DD5-D365C655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689-F465-412F-AF73-58053165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25E-5661-4482-912E-3096E569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11D-8FA6-4ADA-AE15-F2CC119F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EA8-B0E4-4C69-86B8-D24B6E30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8469-40CB-4C7C-AC96-199540E55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R</a:t>
            </a:r>
            <a:r>
              <a:rPr b="0" lang="sr-Latn-RS" sz="2800" spc="-1" strike="noStrike">
                <a:solidFill>
                  <a:srgbClr val="7f7f7f"/>
                </a:solidFill>
                <a:latin typeface="Calibri"/>
              </a:rPr>
              <a:t>azvojna psihologij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sr-Latn-RS" sz="6000" spc="-1" strike="noStrike">
                <a:solidFill>
                  <a:srgbClr val="7f7f7f"/>
                </a:solidFill>
                <a:latin typeface="Calibri"/>
              </a:rPr>
              <a:t>Činioci psihičkog razvoja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46479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of.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 Nada Kora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edagoški fakultet u Jagodi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niverztet u Kraguje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ČINIOCI RAZVOJ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ode utvrđivanja relativnog uticaja sazrevanja i učenj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1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oredna ispitivanj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jedink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azličiti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rs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llogg &amp; Kellogg (praćenje 9 meseci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šimpanza 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(7,5 mes.):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brže napredovanje u početku, motorika (uspravan hod, otvaranje vrata, upotreba kašike i čaše, najavljivanje potrebe za pražnjenje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dete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 (9,5 mes.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brže napredovanje kasnije, naročito s pojavom govora (up. N.L. Koc, šimpanza i dete od po 18 me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ČINIOCI RAZVOJ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ode utvrđivanja relativnog uticaja sazrevanja i učenj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2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ksperimenti s paralelnim grupama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jedink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ste vrste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zolaci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prečavanje aktivnost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išari, 150m : 30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amo na životinjama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podaci o ljudima dostupni samo na osnov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zuzetnih slučajeva, npr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feralna de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bučavanje eksperimentalne grup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(eksperimenti sa dec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lga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eca uzrasta 2 – 3 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akopčavanje dugmadi, sečenje makazama, penjanje uz stepen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uka: E - 12 nedelja ,  C - 1 nedel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e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dentični blizanci, uzrast 10,5 mese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njanje uz stepenice, građenje kule od koca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uka: E - 6 nedelja, C - 2 nedel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ČINIOCI RAZVOJ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 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ativ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ticaj sazrevanja i učenj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6748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ljučni pojmov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OTOVOST ZA UČEN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dređe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j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grani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RITIČNI PERI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r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granica perioda gotov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LOGENETSKE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NKCI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TOGENETSKE FUNK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TSKE I SREDINSKE DETERMINANTE RAZVOJ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relacije između skorova inteligencije kod osoba različitog stepena srodst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523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52280"/>
          <a:ext cx="8229600" cy="6431040"/>
        </p:xfrm>
        <a:graphic>
          <a:graphicData uri="http://schemas.openxmlformats.org/drawingml/2006/table">
            <a:tbl>
              <a:tblPr/>
              <a:tblGrid>
                <a:gridCol w="4622760"/>
                <a:gridCol w="3606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rvno srod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relacija   I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Nesrodni par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- 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Usvojitelji i de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+ 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Rođ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+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Ujak/tetka i nećak/nećaki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+0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Pravi roditelji i de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+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Braća i s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+0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Fraternalni bliza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+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Identični blizanci u različitim sre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+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Identični blizanci u istoj sred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+0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20:26:42Z</dcterms:created>
  <dc:creator>UNS</dc:creator>
  <dc:description/>
  <dc:language>en-US</dc:language>
  <cp:lastModifiedBy>Nada Korac</cp:lastModifiedBy>
  <dcterms:modified xsi:type="dcterms:W3CDTF">2011-01-26T23:10:16Z</dcterms:modified>
  <cp:revision>15</cp:revision>
  <dc:subject/>
  <dc:title>ČINIOCI RAZVOJA</dc:title>
</cp:coreProperties>
</file>