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20D-EBC9-4B33-A4E7-333C2722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5E3-CAD3-4329-837E-6D5C2DA2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0F2-45AF-4EFD-B64C-F43C2E2B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2AB-2E84-49BC-A7EA-32A44B67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03A-980F-40FD-912F-292D8F3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D64-DDC7-40BD-89C5-63DEF830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4BA-C20D-4DCA-9865-ED529B5D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DD2-A0CB-48F7-9EB5-95C2B4E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992-F693-430B-8508-FFD974F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127-1163-4348-A19F-71C0A28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C39-0855-4B39-B965-3F71D330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A58-4093-4023-9933-7D77939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081-236B-4E13-B2BD-0F76BA3A4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8000" spc="-1" strike="noStrike">
                <a:solidFill>
                  <a:srgbClr val="7f7f7f"/>
                </a:solidFill>
                <a:latin typeface="Calibri"/>
              </a:rPr>
              <a:t>Razvoj ličnosti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266720"/>
            <a:ext cx="358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I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jdominantnije forme interpersonalnog ponašanja koje pojedinac manje-viš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ntinuiran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pol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OCIJALIZ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vi procesi koji dovode do toga da najmlađi počinju da osećaju i ponašaju se slično većini odraslih pripadnika njihove k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gensi socijalizacij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odica, škola, vršnjaci, razne društvene institu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slaganje oko INTERAKCIJE ↑ sa naslednim faktor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o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utrašnjih psi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č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h procesa i konflikat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 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dre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v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 nači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a koje će agensi socijalizacije (pre svega roditelji) delovati na oblikovanje li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4"/>
          <p:cNvSpPr/>
          <p:nvPr/>
        </p:nvSpPr>
        <p:spPr>
          <a:xfrm>
            <a:off x="685800" y="464832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. Freud: RAZVOJ LI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a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ihoseksualn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o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azvo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ukcesivn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ncentrisanje i smanjivanje napetosti u različiti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ogenim zonam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e dominiraju u različitim životnim dob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oraln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prva god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analn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(1 –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falusna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3 – 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faza lat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genitaln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pubertet 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3733920" y="3048120"/>
            <a:ext cx="2743200" cy="4572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OPSTVENO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Brace 24"/>
          <p:cNvSpPr/>
          <p:nvPr/>
        </p:nvSpPr>
        <p:spPr>
          <a:xfrm>
            <a:off x="2971800" y="2743200"/>
            <a:ext cx="457200" cy="10666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066680"/>
              <a:gd name="textAreaBottom" fmla="*/ 10548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26"/>
          <p:cNvSpPr/>
          <p:nvPr/>
        </p:nvSpPr>
        <p:spPr>
          <a:xfrm>
            <a:off x="3352680" y="4800600"/>
            <a:ext cx="457200" cy="255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28"/>
          <p:cNvSpPr/>
          <p:nvPr/>
        </p:nvSpPr>
        <p:spPr>
          <a:xfrm>
            <a:off x="4038480" y="4724280"/>
            <a:ext cx="2362320" cy="3812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RUGE OS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29"/>
          <p:cNvSpPr/>
          <p:nvPr/>
        </p:nvSpPr>
        <p:spPr>
          <a:xfrm>
            <a:off x="1981080" y="53341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LIB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0"/>
          <p:cNvSpPr/>
          <p:nvPr/>
        </p:nvSpPr>
        <p:spPr>
          <a:xfrm>
            <a:off x="4952880" y="5410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FIKS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eft Arrow Callout 32"/>
          <p:cNvSpPr/>
          <p:nvPr/>
        </p:nvSpPr>
        <p:spPr>
          <a:xfrm>
            <a:off x="6629400" y="2666880"/>
            <a:ext cx="2209680" cy="990720"/>
          </a:xfrm>
          <a:prstGeom prst="leftArrowCallout">
            <a:avLst>
              <a:gd name="adj1" fmla="val 16733"/>
              <a:gd name="adj2" fmla="val 25000"/>
              <a:gd name="adj3" fmla="val 24999"/>
              <a:gd name="adj4" fmla="val 76924"/>
            </a:avLst>
          </a:prstGeom>
          <a:solidFill>
            <a:srgbClr val="eeece1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regenitalni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. Freud: STRUKTURA LI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NSTANC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ič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goni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ktno zadovoljenje telesnih potreba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od rođenj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raktična, racionalna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onenta ličnost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kcija n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izvesn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posredn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  zadovoljenj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t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otreb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kanje, osmehivanje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otorne veštine, gov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od sredine 1. god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oralni age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čnost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zultat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dentifikac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teta sa roditeljem istog p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korporaci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ralnih standarda odraslih (pre svega roditelja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3. – 4. godina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62120" y="16002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685800" y="22096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5943600" y="2971800"/>
            <a:ext cx="1905120" cy="304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go fun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8"/>
          <p:cNvSpPr/>
          <p:nvPr/>
        </p:nvSpPr>
        <p:spPr>
          <a:xfrm flipV="1">
            <a:off x="5562720" y="3124080"/>
            <a:ext cx="2286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62120" y="403848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UPER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. Erikson: STADIJUM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SIHOSOCIJALNO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leko veći značaj u razvoju ličnosti prida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zumnom delu ličnost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matra pojedin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širem socijalnom okvir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odice 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nog kulturnog nasleđ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vaki pojedinac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okom živo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like da razreši svoje razvojne kriz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nastale u detinj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Malo je toga što se ne može izlečiti kasnije, a mnogo toga što se može sprečiti da se uopšte dogodi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ikson, E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63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ildhood and Society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York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ton,  p. 10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. Erikson: SADIJUMI RAZVOJA LI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nih stadij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oj traj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elog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snovno poverenje nasuprot nepoverenju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0 - 18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tonomija nasuprot stidu i sumnji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18mes – 3 go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icijativa nasuprot osećanju krivic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3 - 5 go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rljivost nasuprot inferiornosti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5 god – pubert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609480" y="12193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33520" y="4267080"/>
            <a:ext cx="3581280" cy="20574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Život u stanu ima m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Dosadno po noći i po d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ovazdan u mene trpaju hr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Kao u šašavom restor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Hoću da bežim u s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495680" y="4191120"/>
            <a:ext cx="3733920" cy="2133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l ako i svet bude slič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l ako mu ja ne budem vič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Ako se neke gluposti d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Za svaki slučaj evo ad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umice Splitska 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5:34:10Z</dcterms:created>
  <dc:creator>UNS</dc:creator>
  <dc:description/>
  <dc:language>en-US</dc:language>
  <cp:lastModifiedBy>Nada Korac</cp:lastModifiedBy>
  <dcterms:modified xsi:type="dcterms:W3CDTF">2011-01-27T00:25:10Z</dcterms:modified>
  <cp:revision>45</cp:revision>
  <dc:subject/>
  <dc:title>Slide 1</dc:title>
</cp:coreProperties>
</file>