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CE6-8E5A-41F1-8593-82791857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58C-8519-4C05-9AF8-6B533D65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3C5-24B4-4D21-B331-DE6CB588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77C-7F68-44AB-8057-EB3FD3E0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54E-D680-402A-8476-61B091B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7B3-4BC0-4962-B01E-306DD88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517-2848-4DB1-92C4-96CBAA1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1DC-1C90-46FF-A10A-B39ED18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C4B-DA55-4C2A-A736-C7856EA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C8D-51BE-47D1-9FED-1ECBDFEF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C46-BE55-4C93-8979-7E7EDC1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FA7-B405-45F5-AEA2-D543B36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EBC-3F05-482A-9B75-0FCDDDD4A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8000" spc="-1" strike="noStrike">
                <a:solidFill>
                  <a:srgbClr val="7f7f7f"/>
                </a:solidFill>
                <a:latin typeface="Calibri"/>
              </a:rPr>
              <a:t>Razvoj govor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9112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Simbolička funkcija: nivoi razvo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imbolička funkcija je opšta sposobnost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icanja i korišćenja ili stvaranja znakov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emiotičkih sistem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izvođenj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emiotičkih operacij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i sticanja ili stvaranj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emiotičkih realnost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ovor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amo jedna od manifest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sticanje (učenje) i korišćenje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ovek i  antropoidni majmun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stvaranje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samo čov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miotički sistem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 izvođenj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miotičkih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znakovnih)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operacija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utar sistema znakova ili pomoću znakov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ivo k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 omogućava nastanak, usvajanje, korišćenje i razvijanje gov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icanj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li stvaranj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miotičkih real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KULTUR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→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vet simboličkih proizvoda (rukotvorina i umotvorina – jezika kao socijalne institucije, nauke, umetnosti, religije, mitov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td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ovekov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UNUTRAŠNJI SVET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utrašnji govor, mišljenje, svest i samosve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van Ivić (1978) 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Čovek kao animal symbolicum.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eograd: Nol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RAZVOJ GOV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a li životinje govor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apagaji, šimpanza Vik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Hay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Hay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Operantno uslovljavanje ili učenje uviđanj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Razumevanje 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orndajkove mač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I must feed those cats, My name is Thorndike, Today is Tues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1066680" y="2590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rtiku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4191120" y="25909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nač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eft-Right Arrow 7"/>
          <p:cNvSpPr/>
          <p:nvPr/>
        </p:nvSpPr>
        <p:spPr>
          <a:xfrm>
            <a:off x="5257800" y="5257800"/>
            <a:ext cx="380880" cy="152280"/>
          </a:xfrm>
          <a:prstGeom prst="leftRightArrow">
            <a:avLst>
              <a:gd name="adj1" fmla="val 50000"/>
              <a:gd name="adj2" fmla="val 75383"/>
            </a:avLst>
          </a:prstGeom>
          <a:solidFill>
            <a:srgbClr val="59595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33520" y="4876920"/>
            <a:ext cx="4647960" cy="68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itmička i melodijska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943600" y="4876920"/>
            <a:ext cx="2438280" cy="761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lasovni sa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us 12"/>
          <p:cNvSpPr/>
          <p:nvPr/>
        </p:nvSpPr>
        <p:spPr>
          <a:xfrm>
            <a:off x="3352680" y="2666880"/>
            <a:ext cx="381240" cy="38124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Zašto majmuni ne govo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 hotimičnog proizvođenja zvukova bez obu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 upotrebe reči u okruženju jedinki iste vrs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 reči u obraćanju jedinkama iste vrs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 pokušaja kombinovanja reči (kad su nauče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 centra za govor (Brokin cent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e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676520" y="4952880"/>
            <a:ext cx="2819160" cy="68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Calibri"/>
              </a:rPr>
              <a:t>vokaliz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 govora kod dece: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ELINGVISTIČKA FAZA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a polovina 1. g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ponta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proizvedeni glasovi (1. mesec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vokal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konsonant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m,n,g,k ..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vokalizacij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gukan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ta kod SVE dece, uključujući i glu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većanje broja glasova u odnosu na jezik sredine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glasovna ekspanz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↑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lovanje fakt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581280" y="5334120"/>
            <a:ext cx="4953240" cy="838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SAZREVANJA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(maturacij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 govora kod dece: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ELINGVISTIČKA FAZA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a polovina 1. godi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eholalij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rbljan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dvajanje/umnožavanje slog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utostimulacija –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ekundarna cirkularna reakci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Pg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epostojanje eholalije kod gluv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manjivnje broja glasova shodno jeziku sredin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glasovna kontrakc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lovanje fakt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86200" y="5334120"/>
            <a:ext cx="4419720" cy="838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UČENJA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(iskust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Lingvistička faza: pojava gov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EČ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rupa glasova koja 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le reče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ražav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mocionalno stan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potrebu, želju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a godinu dana, u proseku tri re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a 18 meseci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rečenic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od dve re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1219320"/>
            <a:ext cx="1067040" cy="533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NAČ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066680" y="5334120"/>
            <a:ext cx="3200400" cy="533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elegrafski g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181480" y="5181480"/>
            <a:ext cx="2895840" cy="609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ituacioni 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Teorije razvoja govora: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Bihejviori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eoma snažno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tkrepljivan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okalnog ponašanj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vokalizacije i eholalij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eagovanja na glasov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eagovanja na reč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npr. “ne!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zgovaranja reč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lakše, a efikasnij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↑ 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INSTRUMENTALNO (OPERANTNO) USLOVLJA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te uči da govori jer sredina visoko vrednuje i nagrađuje govorne reakcije (ponašanj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relevantno za sticanje grama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nosi se pretežno n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elingvističku fa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eorije razvoja govora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N. Chomsky, R. Br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homsk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urođen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univerzalna grama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language acquisition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te (nesvesno) konstruiš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mplicitnu teoriju jez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Izrazito NATIVISTIČKA teor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svajanje konkretnog jezika zavisi od oko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Brow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i procesa u sticanju sintak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dražavanje govora odraslih, uz redukcije (“mama luti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dražavanje” i upotpunjavanje od strane odrasl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“kuci pava” – “hoćeš da idemo kući da spavaš?”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→ podražavanje korigovanog ; izuzetak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.    otkrivanje opštih pravila jezika → nove konstru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nosi se isključivo n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ingvističku fa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962520" y="4876920"/>
            <a:ext cx="3886200" cy="380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reterane generaliz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imbolička funkcija i sistemi sporazume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judska vrsta koristi različit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isteme znak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JEZIK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kao najrazvijeniji, model za analizu ostal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likovni znaci, gestovni znaci, sistem označavanja u matematici, muzici, saobraćajni znaci, činovi u vojsci, uniforme, heraldički znaci (zastave, grbovi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stanak, korišćenje i dalje razvijanje omogućeni su postojan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Calibri"/>
              </a:rPr>
              <a:t>simboličke 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(semiotičke)  </a:t>
            </a:r>
            <a:r>
              <a:rPr b="0" i="1" lang="sr-Latn-CS" sz="2800" spc="-1" strike="noStrike">
                <a:solidFill>
                  <a:srgbClr val="ff0000"/>
                </a:solidFill>
                <a:latin typeface="Calibri"/>
              </a:rPr>
              <a:t>funkcije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differentia specific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judske vrs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animal symbolic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7:06:05Z</dcterms:created>
  <dc:creator>UNS</dc:creator>
  <dc:description/>
  <dc:language>en-US</dc:language>
  <cp:lastModifiedBy>Nada Korac</cp:lastModifiedBy>
  <dcterms:modified xsi:type="dcterms:W3CDTF">2011-01-26T23:40:46Z</dcterms:modified>
  <cp:revision>78</cp:revision>
  <dc:subject/>
  <dc:title>RAZVOJ GOVORA</dc:title>
</cp:coreProperties>
</file>